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C64-F4F1-49AC-9676-3834B88A7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2C5F-E6C1-4684-935B-29AFA1EF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58C0-F2CD-4837-AE33-9355ED8BC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1844-33F0-4C15-A082-B6D6E2083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56072-AB45-4A2E-ADE5-76FBDE789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4FC30-A13F-4C62-9314-43481F87D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449C4-9A37-4BDA-A25A-680FF8EA8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7F7C-5398-4408-88F0-81CD574FE7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DF3A4-BF74-4F82-9BD9-196103F6E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950BE-563F-4FDE-9B54-F585B2F80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9331-CFD5-4EF2-8471-FFADEA768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CFED-0880-49A8-834B-D74359499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B55C695-BDE1-47E1-AB9B-44F0AEA7F5A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NEO 2 – CW 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125360"/>
            <a:ext cx="525600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1125360"/>
            <a:ext cx="3313080" cy="52563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80560" y="1197000"/>
            <a:ext cx="3912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 and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tual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4880" y="1197000"/>
            <a:ext cx="26679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ed achiev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ext c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1916280"/>
            <a:ext cx="525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16280"/>
            <a:ext cx="31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2077920"/>
            <a:ext cx="494172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1 decla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W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W (and ST) due to RIM not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tatus very critical for NEO at a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Escalation to MP board and CEO of R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ctual planning for EDS: 61K at 24.9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1 Board and A1 Wing Board available and Service mode ru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349360"/>
            <a:ext cx="295272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M technical workshop and decision how to proceed with 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mechanical data to suppl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1 Prototype /w servic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30T07:51:38Z</dcterms:modified>
  <cp:revision>98</cp:revision>
  <dc:subject/>
  <dc:title>No Slide Title</dc:title>
</cp:coreProperties>
</file>